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CE8C-5F0A-4621-82B4-669AA2763CF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0F96-6E6F-4842-A4DA-DD758CCBDC7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617-64D6-4914-B93F-F5162A93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359-3875-4E12-B32F-C4547ABC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9D5-7E0D-4A76-A0A9-075744F3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E95-2CDC-4410-BDE7-DD791960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C3D-3782-4E02-B661-C52B24F8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461-50DF-4B52-8F78-EBD1D29A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AFA-E207-46DE-BB70-93D55509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30F-6FCF-4D17-A859-9584122C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02C-768C-4318-9361-7340F36A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870-B8C9-4A77-9F5B-E510FB3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9E4-C2DB-47B7-98A1-160A57D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15A-4E23-4F6A-B23F-2E233D31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005B-67EA-4C19-9836-4BAF2234ED59}" type="slidenum">
              <a:rPr b="0" lang="en-N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00120" y="142920"/>
            <a:ext cx="6400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2f022"/>
                </a:solidFill>
                <a:latin typeface="Amienne"/>
              </a:rPr>
              <a:t>How To Make The Castle Himej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imejiCastle.jpg image by ventti_2008"/>
          <p:cNvPicPr/>
          <p:nvPr/>
        </p:nvPicPr>
        <p:blipFill>
          <a:blip r:embed="rId1"/>
          <a:stretch/>
        </p:blipFill>
        <p:spPr>
          <a:xfrm>
            <a:off x="2143080" y="2928960"/>
            <a:ext cx="5000760" cy="3743280"/>
          </a:xfrm>
          <a:prstGeom prst="rect">
            <a:avLst/>
          </a:prstGeom>
          <a:ln w="0">
            <a:noFill/>
          </a:ln>
        </p:spPr>
      </p:pic>
      <p:sp>
        <p:nvSpPr>
          <p:cNvPr id="50" name="Down Arrow 5"/>
          <p:cNvSpPr/>
          <p:nvPr/>
        </p:nvSpPr>
        <p:spPr>
          <a:xfrm>
            <a:off x="7786800" y="214200"/>
            <a:ext cx="1214280" cy="642960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n Arrow 6"/>
          <p:cNvSpPr/>
          <p:nvPr/>
        </p:nvSpPr>
        <p:spPr>
          <a:xfrm>
            <a:off x="214200" y="285840"/>
            <a:ext cx="1214640" cy="635796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Heart 8"/>
          <p:cNvSpPr/>
          <p:nvPr/>
        </p:nvSpPr>
        <p:spPr>
          <a:xfrm>
            <a:off x="1357200" y="1643040"/>
            <a:ext cx="121464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Heart 10"/>
          <p:cNvSpPr/>
          <p:nvPr/>
        </p:nvSpPr>
        <p:spPr>
          <a:xfrm>
            <a:off x="6643800" y="1643040"/>
            <a:ext cx="121428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00040" y="428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 a a bid rectangle the size of 40 feet with the rectangle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ne of the sides of the rectangle draw anouther rectangle the size of about a third of the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grab the push and pull tool and pull up the house about the same height as the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4364" t="33165" r="0" b="30184"/>
          <a:stretch/>
        </p:blipFill>
        <p:spPr>
          <a:xfrm>
            <a:off x="0" y="3714840"/>
            <a:ext cx="8947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5"/>
          <p:cNvSpPr/>
          <p:nvPr/>
        </p:nvSpPr>
        <p:spPr>
          <a:xfrm>
            <a:off x="142920" y="21420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op of the rect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make a smaller rectangle inside the rectangle and push and 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make 2 small squares on the top of the building and push and pu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17583" t="21099" r="8790" b="6812"/>
          <a:stretch/>
        </p:blipFill>
        <p:spPr>
          <a:xfrm>
            <a:off x="857160" y="2143080"/>
            <a:ext cx="71438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214200" y="285840"/>
            <a:ext cx="8572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 make the roof by putting a line straight in the middle of the squar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use the push pull tool and pull the line up to make a ro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use the arc tool on the roves and push/pull them back so they look like the picture down the bot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5115" t="35352" r="0" b="10701"/>
          <a:stretch/>
        </p:blipFill>
        <p:spPr>
          <a:xfrm>
            <a:off x="142920" y="2643120"/>
            <a:ext cx="88120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85840" y="285840"/>
            <a:ext cx="850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ep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raw a window on the the side of the w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ep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se the copy/ move tool and hold control and drag the window and anouther one will come out keep repeating this till it is full all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ep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se the push/pull tool to push in the windows in the corner write 1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ep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lour all of it in the colour you want then it should look like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11031" t="10587" r="30883" b="28237"/>
          <a:stretch/>
        </p:blipFill>
        <p:spPr>
          <a:xfrm>
            <a:off x="1285920" y="2857680"/>
            <a:ext cx="56433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357120" y="42876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for the other building except ad 2 more fl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hould be your final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22866" t="10975" r="14253" b="19512"/>
          <a:stretch/>
        </p:blipFill>
        <p:spPr>
          <a:xfrm>
            <a:off x="857160" y="1500120"/>
            <a:ext cx="75009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mienne"/>
              </a:rPr>
              <a:t>By Kathryn Heilbron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6:33:46Z</dcterms:created>
  <dc:creator>Diocesan School for Girls</dc:creator>
  <dc:description/>
  <dc:language>en-US</dc:language>
  <cp:lastModifiedBy>Diocesan School for Girls</cp:lastModifiedBy>
  <dcterms:modified xsi:type="dcterms:W3CDTF">2009-09-10T22:00:40Z</dcterms:modified>
  <cp:revision>7</cp:revision>
  <dc:subject/>
  <dc:title>Slide 1</dc:title>
</cp:coreProperties>
</file>